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3A1-78A0-448A-BC52-757C7A6B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D5D1-98E1-41E2-900E-A551D895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DF34-54B1-4FBD-9351-C3D7C36A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0017-A220-4293-93A8-9441FC0C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025E3-7DA3-473E-A38C-8A8254A5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3857D-A703-40BD-871B-B4589225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3F1F9-560A-49C6-AF3F-1D32CB0B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46C12-D205-4A35-89B2-86F05786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FC1D5-EEE1-41B0-BB48-77426A1B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2625E-A027-4635-934A-507C5731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0380F-02E4-4E24-A7BA-90B46331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FC8-DC7E-4E7E-ACC6-2918D657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127B0-5EE6-4E4B-8BB5-9D7D6E08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B8505-FCA5-4184-B67A-80C01764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5485F-CF91-4BF4-8CA9-26006465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F7C78-4215-4DAD-98C4-865937A8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2F354-ECAC-40DF-862A-DD1B4F7F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E036-638D-4FE6-B113-F1C869C5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B7E-F7EA-4B14-B8EE-801AA907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533-EE60-4202-9DD4-49A9AD8B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4453-441D-4308-9C68-F5C91A4A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4AF2-10DC-479B-A0F3-A751F213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BE6-F285-45EB-B07E-2CA4AED6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A0BB-EA0C-4A2E-A2D2-CADEA7F3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FAE8-BE31-4062-9D83-75830F5927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43964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AFE4-6A2F-4371-9D95-166030BB9F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800" spc="-1" strike="noStrike">
                <a:solidFill>
                  <a:srgbClr val="ccaa00"/>
                </a:solidFill>
                <a:latin typeface="Arial"/>
              </a:rPr>
              <a:t>KlickDichSchlau-Tours Angebot der Woche</a:t>
            </a:r>
            <a:endParaRPr b="0" lang="en-US" sz="4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n Wochenende in W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262600">
            <a:off x="4966920" y="4076640"/>
            <a:ext cx="4176720" cy="2016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nderangebo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Wien-Wochenende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Anreis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zu Fu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oder per Anhal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Übernachtung im Tausend-Sterne Hotel (unter freiem Himm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Stadtrundfahrt mit der Wiener U-Bah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Das Unternehmen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7200" y="1600200"/>
            <a:ext cx="8228880" cy="4494600"/>
            <a:chOff x="457200" y="1600200"/>
            <a:chExt cx="8228880" cy="4494600"/>
          </a:xfrm>
        </p:grpSpPr>
        <p:cxnSp>
          <p:nvCxnSpPr>
            <p:cNvPr id="130" name="_s24592"/>
            <p:cNvCxnSpPr>
              <a:stCxn id="131" idx="0"/>
              <a:endCxn id="132" idx="2"/>
            </p:cNvCxnSpPr>
            <p:nvPr/>
          </p:nvCxnSpPr>
          <p:spPr>
            <a:xfrm flipV="1" rot="16200000">
              <a:off x="5573880" y="2405880"/>
              <a:ext cx="875520" cy="2880720"/>
            </a:xfrm>
            <a:prstGeom prst="bentConnector3">
              <a:avLst>
                <a:gd name="adj1" fmla="val 13122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3" name="_s24591"/>
            <p:cNvCxnSpPr>
              <a:stCxn id="134" idx="0"/>
              <a:endCxn id="132" idx="2"/>
            </p:cNvCxnSpPr>
            <p:nvPr/>
          </p:nvCxnSpPr>
          <p:spPr>
            <a:xfrm flipV="1">
              <a:off x="4571640" y="3408840"/>
              <a:ext cx="3600" cy="8755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5" name="_s24590"/>
            <p:cNvCxnSpPr>
              <a:stCxn id="136" idx="0"/>
              <a:endCxn id="132" idx="2"/>
            </p:cNvCxnSpPr>
            <p:nvPr/>
          </p:nvCxnSpPr>
          <p:spPr>
            <a:xfrm flipH="1" flipV="1" rot="5400000">
              <a:off x="2693520" y="2406240"/>
              <a:ext cx="875520" cy="2880720"/>
            </a:xfrm>
            <a:prstGeom prst="bentConnector3">
              <a:avLst>
                <a:gd name="adj1" fmla="val 13122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32" name="_s24586"/>
            <p:cNvSpPr/>
            <p:nvPr/>
          </p:nvSpPr>
          <p:spPr>
            <a:xfrm>
              <a:off x="3337200" y="16002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ffffff"/>
                  </a:solidFill>
                  <a:latin typeface="Arial"/>
                </a:rPr>
                <a:t>KlickDichSchlau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ffffff"/>
                  </a:solidFill>
                  <a:latin typeface="Arial"/>
                </a:rPr>
                <a:t>Tour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24587"/>
            <p:cNvSpPr/>
            <p:nvPr/>
          </p:nvSpPr>
          <p:spPr>
            <a:xfrm>
              <a:off x="45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Busreise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24588"/>
            <p:cNvSpPr/>
            <p:nvPr/>
          </p:nvSpPr>
          <p:spPr>
            <a:xfrm>
              <a:off x="333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Schiffsreise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24589"/>
            <p:cNvSpPr/>
            <p:nvPr/>
          </p:nvSpPr>
          <p:spPr>
            <a:xfrm>
              <a:off x="621756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Flugreise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e Bus-Flotte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Voll klimatisiert (es zieht überall hine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Top-aktuelles Retro-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96920" y="1600200"/>
            <a:ext cx="695016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 Schiff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sink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tungsbo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448080" y="1844640"/>
            <a:ext cx="5695920" cy="42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e Flugzeuge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werden je nach Grösse der Reisegruppe aus Einzelteilen zusammengesetz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26539" r="0" b="0"/>
          <a:stretch/>
        </p:blipFill>
        <p:spPr>
          <a:xfrm>
            <a:off x="1979640" y="2924280"/>
            <a:ext cx="532764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e Umsätze in € 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8360" y="1628640"/>
          <a:ext cx="82296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296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5:16:58Z</dcterms:created>
  <dc:creator>Oliver Mochmann</dc:creator>
  <dc:description/>
  <dc:language>en-US</dc:language>
  <cp:lastModifiedBy>Administrator</cp:lastModifiedBy>
  <dcterms:modified xsi:type="dcterms:W3CDTF">2011-06-06T06:45:16Z</dcterms:modified>
  <cp:revision>21</cp:revision>
  <dc:subject/>
  <dc:title>Folie 1</dc:title>
</cp:coreProperties>
</file>